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2F75E1-51FA-41B8-AEC3-1CC6CE0A51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B6A6B25-EC1A-4578-A20A-2505E36E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4EBB5D4-7EC0-469B-9C53-CD06B2E9E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246840F-FC34-4EE9-B56C-80B84B75CC8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63DB263-5FC6-47B1-84F0-CEA9B7399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0302CF4-C13A-4BF7-B6A9-B123D5374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698F7C4-A048-4D93-A56D-BA391C2C4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3E8AECA-EBB2-41F4-86D8-FAE4F80B9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9907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ACAD9A5-809B-453D-8D7A-92B4B004E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59D0DE9-42BC-43E4-B764-08400F9DD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455B540-E84C-41E1-B354-77E0241D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2F4A3C9-0128-4F17-A3DA-9EF5D3D61DD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date/time&gt;</a:t>
            </a:r>
            <a:r>
              <a:rPr b="0" lang="en-US" sz="1400" spc="-1" strike="noStrike">
                <a:solidFill>
                  <a:srgbClr val="000000"/>
                </a:solidFill>
                <a:latin typeface="Times New Roman"/>
                <a:ea typeface="ＭＳ Ｐゴシック"/>
              </a:rPr>
              <a:t>April 13th, 2006</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314840" y="6248520"/>
            <a:ext cx="1143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A0C0-13E9-485D-AA99-D1951667A4C6}"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304920" y="152280"/>
            <a:ext cx="4978440" cy="73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tree.celinuxforum.org/CelfPubWiki/CELFPmRequirements2006?action=AttachFile&amp;do=get&amp;target=CELF_PM_requierments2006.pdf" TargetMode="External"/><Relationship Id="rId3" Type="http://schemas.openxmlformats.org/officeDocument/2006/relationships/hyperlink" Target="http://tree.celinuxforum.org/CelfPubWiki/CELFPmRequirements2006"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04920" y="1523880"/>
            <a:ext cx="8610480" cy="1871640"/>
          </a:xfrm>
          <a:prstGeom prst="rect">
            <a:avLst/>
          </a:prstGeom>
          <a:ln w="0">
            <a:noFill/>
          </a:ln>
        </p:spPr>
      </p:pic>
      <p:sp>
        <p:nvSpPr>
          <p:cNvPr id="42" name=""/>
          <p:cNvSpPr/>
          <p:nvPr/>
        </p:nvSpPr>
        <p:spPr>
          <a:xfrm>
            <a:off x="0" y="3733920"/>
            <a:ext cx="8991720" cy="1693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PM Requirements for 2006</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Overview and highlight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Mark Gross mark.gross@intel.co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6A7842D-09BA-4855-85C6-47CA6ED85F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ucing timer tick overhe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E devices much of the default kernel periodic processing is not helpful and burns pow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to quantify or measure the work done on timer ticks in a running system would be very helpfu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to trim down the work done on timers for CE platforms is also of high valu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02A3A5A-AAA7-4E88-97DD-1B4281A193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 latency Idle state machin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platforms tend to have multiple low power idle states, where different components on the SOC die are powered off or put in an ultra-low power stat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is that these ultra-low power states is that they have significant latency.</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lem is not simply choosing which idle function to call from the scheduler.  Its doing so in a sane manner without hosing the system.</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having a set of 5 idle functions you could call.  Each one with a different latency, sorted in order of increasing latency. “i1, i2,…i5” Where i5 has a 3sec latency.</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could such  idle functions be used, without sacrificing the usability of the system?</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can’t simply call i5, from idle every time.  Rather you would likely set up a one-shot call to i5, where upon the next call to idle the system needs to consider the lower latency idle functions firs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rther how could one export the idle function policy controls to user space?</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BB037A1-BEDA-4A80-9224-46F257535E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PUFREQ Governor “limiting”</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some CPUFREQ governors can lead to issues with media play back.</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 devices would like to see maximum platform throttling subject to the constraint that RT play back of media not drop fram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needs to be a mechanism for implementing this type of constraint on the platform throttl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dea to implement this capability is to provide a deadline governor, that takes a periodic deadline and regular heartbeat into from a mplayer type of applicatio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the application finishes with a frame of compressed media it heartbeats the governor.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heartbeat comes too close to the deadline, then throttle up the platform, otherwise throttle back.</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0CCF5C4-936A-4E26-A9D1-5250565DDB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 UP</a:t>
            </a:r>
            <a:br>
              <a:rPr sz="4000"/>
            </a:br>
            <a:r>
              <a:rPr b="0" lang="en-US" sz="4000" spc="-1" strike="noStrike">
                <a:solidFill>
                  <a:srgbClr val="000000"/>
                </a:solidFill>
                <a:latin typeface="Times New Roman"/>
              </a:rPr>
              <a:t>in case there is time for more</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are items worth further investiga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51BAB1D-05F3-445C-9D8B-D86825C242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ement and Benchmarking</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missing well defined / published processes and techniques for measuring the effectiveness of PM techniques.  We could use some type of project to provide thes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work load and benchmark scenarios for evaluating and driving PM feature develop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offee shop” workload scenari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plane workload scenari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phone workload scenari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A workload scenari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op box workload scenari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99BBDF-D3E7-4465-AFC5-364C0EB391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M / scheduler coupl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ttling work loads is a reasonable approach to power managemen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user scenarios call for closer interaction between the scheduler and power manage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cron jobs while under battery isn’t coo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mmetric suspend / resume support for selected tasks.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running a large cross compile or transcoding mp3’s to org’s, while tethered, suspend system, go to the coffee shop, use the system for a while without burning battery on the background processing, and to have the processing continue when re-tethered seamless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9F41C64-FD28-4427-9F71-C2B99AE5D1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spend resume latency and VM thrash</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s suspend / resume processing is not very predictable in terms of the time it takes for the system to return to a useable state, capable of playing back 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problem is the predicability is very po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problem is even after the UI is up and mostly responsive, the ability to play back media is delayed by the thrashing of the VM refreshing pages that where freed on the suspend opera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31508B8-08E2-4592-99A3-E627A3EBB7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ed to avoid implicit ACPI assumptions in API’s</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UFREQ is guilty of this in that it assumes core voltage is a function of frequency.  Which is not true for most platforms without ACP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been getting better.  Swsusp no longer uses “echo s4 &gt; /proc/acpi/slee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itecture maintainers need to export more platform throttling interfaces before this problem sorts itself ou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DA5BF48-9D68-4B0A-BB1F-A9B1A3DF58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2FEF1A-51A4-442E-AF2B-C934C6B4B32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m the chair or the CELF PM working group.</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F is a collection of companies involved with CE products that use Linux that want to help Linux be more useful for CE applica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 requirements have the following goal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 CE needs to the linux-pm communit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luence new developmen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cument has input from ARM, Intel, Monte Vista, Motorola, Nokia, Philips, Sony and some input from the Linux-PM lis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Times New Roman"/>
                <a:hlinkClick r:id="rId2"/>
              </a:rPr>
              <a:t>http://tree.celinuxforum.org/CelfPubWiki/CELFPmRequirements2006?action=AttachFile&amp;do=get&amp;target=CELF_PM_requierments2006.pdf</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ed to at the top of the CELF public PM Wiki </a:t>
            </a:r>
            <a:r>
              <a:rPr b="0" lang="en-US" sz="1800" spc="-1" strike="noStrike" u="sng">
                <a:solidFill>
                  <a:srgbClr val="0033cc"/>
                </a:solidFill>
                <a:uFillTx/>
                <a:latin typeface="Times New Roman"/>
                <a:hlinkClick r:id="rId3"/>
              </a:rPr>
              <a:t>http://tree.celinuxforum.org/CelfPubWiki/CELFPmRequirements2006</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C4202D4-016A-4792-96B2-924B794300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 for CELF PM WG</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input from PM-Summ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e with existing efforts supporting items in the requirement document and see what we can do to hel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up some of the new ideas and implement / submit them for up-stream ker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w and maintain an open dialog with linux-pm communit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EAAD77-A139-4C82-9D72-391F2B49E3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quirements document overview</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DF requirements document is derived from the public Wiki pag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ncludes a subset of the Wiki items that the CELF PMWG feels needs attention or looks interesting.</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ments are partitioned into the following categories: Interface, Platform Throttling, Process / OS Throttling, Lower power kernel processing, Sleep state support, System Load Prediction, and Measurement and Benchmark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e requirements are calls for investigations and more data. i.e. Load System Load Prediction + measurement and benchmarking.</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CE0D63-44D5-4FC1-AF09-C385A2E669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est priority items for CELF</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t of this presentation will be an open discussion and walk through of the high priority items called out in the docu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 just keep going as time permit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we can blow through it all as quickly as possibl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3DD20F-C33A-4080-B6BC-B968123D67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ck-less id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 devices really need this bad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 platforms will issue special instructions to put the SOC power domains into low power modes and whenever interrupts happen it wastes a lot of power waking these domains up to just increment jiff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cell phone waiting for call or user to press button.  The thing is very idle and timer ticks prevent us of SOC power saving features, which burns battery.</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7ED3FF-8920-4DD8-B193-704C3D547E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od enough interface for controlling PM knobs</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there is not a arch independent / common method for controlling anything other than core frequency.</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believe this is because of the implicit influence of ACPI on assumptions made by the CPUFREQ infrastructur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 arch’s are constantly rolling there own platform control drivers, doing some custom thing or using an OSV only solution (DP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sub-optimal.</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platform developer has no choice today if they want to do power management today they need to use non-mainline soluti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design a platform independent interface to sometimes arch specific control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we provide some extensibility to the cpufreq_driver structur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89988F8-0CE6-4A59-8611-F705C4A27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Goals for PM framework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 policy drivers / interfaces for setting platform dependent control variabl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sible WRT platform specific control variables.</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 drivers need to be “arch-independent” as far a the kernel build is concerned, but;</a:t>
            </a:r>
            <a:endParaRPr b="0" lang="en-US" sz="2000" spc="-1" strike="noStrike">
              <a:solidFill>
                <a:srgbClr val="000000"/>
              </a:solidFill>
              <a:latin typeface="Times New Roman"/>
            </a:endParaRPr>
          </a:p>
          <a:p>
            <a:pPr lvl="1" marL="990720" indent="-5335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y drivers that control platform specific parameters not available at load time, should do no harm.</a:t>
            </a:r>
            <a:endParaRPr b="0" lang="en-US" sz="1800" spc="-1" strike="noStrike">
              <a:solidFill>
                <a:srgbClr val="000000"/>
              </a:solidFill>
              <a:latin typeface="Times New Roman"/>
            </a:endParaRPr>
          </a:p>
          <a:p>
            <a:pPr lvl="1" marL="990720" indent="-5335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haps use compile time and kbuild to control the policy driver options that are built to avoid building such drivers?</a:t>
            </a:r>
            <a:endParaRPr b="0" lang="en-US" sz="18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mplicit constraints on policy algorithms or logic.</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policy implementation in user space, or policy drivers</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form constraints on control variables are enforced by arch code</a:t>
            </a: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DC9AD8C-465F-4A49-8C42-E624AC2F8E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uct cpufreq_driver needs to export core Voltage</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E platforms can change both frequency and Voltage. i.e. K(OS_State, freq, volt)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freq, vol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UFREQ implicitly assumes that voltage can be computed from Frequency. i.e. K(OS_state, freq)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freq</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terface constraint locks out entire classes of power management opportunities for CE products without using custom patch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terface constraint is likely the reason for the limited numbers of CPUFREQ governor options today.</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6EC7012-EAAA-4684-9807-5E8F747037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2:09:45Z</dcterms:created>
  <dc:creator>mgross</dc:creator>
  <dc:description/>
  <dc:language>en-US</dc:language>
  <cp:lastModifiedBy>mgross</cp:lastModifiedBy>
  <dcterms:modified xsi:type="dcterms:W3CDTF">2006-04-13T18:53:50Z</dcterms:modified>
  <cp:revision>13</cp:revision>
  <dc:subject/>
  <dc:title>Slide 1</dc:title>
</cp:coreProperties>
</file>